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B8CC-201C-429F-9FD5-1D5FA36D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A17-5213-4382-9D87-A41C39ED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107-4A46-4E23-8ED4-007C22A7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BB53-51AD-49DD-8A79-7B1FF180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3C2C-D88D-44F2-9705-D350CA91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8DCD-92DA-4C7A-BAE8-4706B9D4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43B3-69E0-48AC-A8DA-84E08E4E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617-49F9-4322-8F1C-6B631A75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06A6-B047-4807-8E2D-9DFDEBB2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E630-7DC6-41E6-BBFF-B1327635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A648-8D6F-4D18-AFBB-77ACA453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1C1D-31EE-499C-AD18-A16E6CD2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7335-5250-4EBD-8BA0-9BFA0226C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5T06:11:31Z</dcterms:created>
  <dc:creator>user</dc:creator>
  <dc:description/>
  <dc:language>en-US</dc:language>
  <cp:lastModifiedBy/>
  <dcterms:modified xsi:type="dcterms:W3CDTF">2015-07-24T12:52:1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674</vt:lpwstr>
  </property>
</Properties>
</file>